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0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5.jpeg" ContentType="image/jpeg"/>
  <Override PartName="/ppt/media/image8.jpeg" ContentType="image/jpe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4300" spc="-1" strike="noStrike">
                <a:solidFill>
                  <a:srgbClr val="ffffff"/>
                </a:solidFill>
                <a:latin typeface="FrutigerNext LT Medium"/>
              </a:rPr>
              <a:t>Click to move the slide</a:t>
            </a:r>
            <a:endParaRPr b="1" lang="en-US" sz="4300" spc="-1" strike="noStrike">
              <a:solidFill>
                <a:srgbClr val="ffffff"/>
              </a:solidFill>
              <a:latin typeface="FrutigerNext LT Medium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E3FAE-AEFD-4A5A-8130-B9AE6C662ED7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8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8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6224760"/>
            <a:ext cx="9150480" cy="6364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555480" y="6438960"/>
            <a:ext cx="2813040" cy="2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0280" rIns="8028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rutigerNext LT Bold"/>
              </a:rPr>
              <a:t>HUAWEI TECHNOLOGIES CO., LT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3"/>
          <a:stretch/>
        </p:blipFill>
        <p:spPr>
          <a:xfrm>
            <a:off x="7508880" y="6399360"/>
            <a:ext cx="1311120" cy="312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dt" idx="1"/>
          </p:nvPr>
        </p:nvSpPr>
        <p:spPr>
          <a:xfrm>
            <a:off x="6360840" y="6489720"/>
            <a:ext cx="209700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85000"/>
              </a:lnSpc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  <a:defRPr b="0" lang="de-DE" sz="1200" spc="-1" strike="noStrike">
                <a:solidFill>
                  <a:srgbClr val="000000"/>
                </a:solidFill>
                <a:latin typeface="FrutigerNext LT Bold"/>
              </a:defRPr>
            </a:lvl1pPr>
          </a:lstStyle>
          <a:p>
            <a:pPr indent="0">
              <a:lnSpc>
                <a:spcPct val="85000"/>
              </a:lnSpc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utigerNext LT Bold"/>
              </a:rPr>
              <a:t>Page </a:t>
            </a:r>
            <a:fld id="{7DFC8349-481A-4F31-B39F-E55025FE2885}" type="slidenum">
              <a:rPr b="0" lang="de-DE" sz="1200" spc="-1" strike="noStrike">
                <a:solidFill>
                  <a:srgbClr val="000000"/>
                </a:solidFill>
                <a:latin typeface="FrutigerNext LT Bol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651960" y="42984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3400" spc="-1" strike="noStrike">
                <a:solidFill>
                  <a:srgbClr val="990000"/>
                </a:solidFill>
                <a:latin typeface="FrutigerNext LT Medium"/>
              </a:rPr>
              <a:t>Click to edit the title text format</a:t>
            </a: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5" name=""/>
          <p:cNvSpPr/>
          <p:nvPr/>
        </p:nvSpPr>
        <p:spPr>
          <a:xfrm>
            <a:off x="-1908000" y="528480"/>
            <a:ext cx="1844640" cy="53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rmAutofit/>
          </a:bodyPr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英文标题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32-35pt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颜色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 R153 G0 B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FrutigerNext LT Regular"/>
                <a:ea typeface="华文细黑"/>
              </a:rPr>
              <a:t>内部使用字体 </a:t>
            </a:r>
            <a:r>
              <a:rPr b="0" lang="en-US" sz="1100" spc="-1" strike="noStrike">
                <a:solidFill>
                  <a:srgbClr val="ffffff"/>
                </a:solidFill>
                <a:latin typeface="FrutigerNext LT Regular"/>
                <a:ea typeface="华文细黑"/>
              </a:rPr>
              <a:t>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FrutigerNext LT Regular"/>
                <a:ea typeface="华文细黑"/>
              </a:rPr>
              <a:t>FrutigerNext LT Mediu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FrutigerNext LT Regular"/>
                <a:ea typeface="华文细黑"/>
              </a:rPr>
              <a:t>外部使用字体 </a:t>
            </a:r>
            <a:r>
              <a:rPr b="0" lang="en-US" sz="1100" spc="-1" strike="noStrike">
                <a:solidFill>
                  <a:srgbClr val="ffffff"/>
                </a:solidFill>
                <a:latin typeface="FrutigerNext LT Regular"/>
                <a:ea typeface="华文细黑"/>
              </a:rPr>
              <a:t>: Aria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7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中文标题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30-32pt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颜色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 R153 G0 B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字体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黑体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英文正文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20-22p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子目录 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(2-5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级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) :18pt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颜色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黑色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FrutigerNext LT Regular"/>
                <a:ea typeface="华文细黑"/>
              </a:rPr>
              <a:t>内部使用字体 </a:t>
            </a:r>
            <a:r>
              <a:rPr b="0" lang="en-US" sz="1100" spc="-1" strike="noStrike">
                <a:solidFill>
                  <a:srgbClr val="ffffff"/>
                </a:solidFill>
                <a:latin typeface="FrutigerNext LT Regular"/>
                <a:ea typeface="华文细黑"/>
              </a:rPr>
              <a:t>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FrutigerNext LT Regular"/>
                <a:ea typeface="华文细黑"/>
              </a:rPr>
              <a:t>FrutigerNext LT Regula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FrutigerNext LT Regular"/>
                <a:ea typeface="华文细黑"/>
              </a:rPr>
              <a:t>外部使用字体 </a:t>
            </a:r>
            <a:r>
              <a:rPr b="0" lang="en-US" sz="1100" spc="-1" strike="noStrike">
                <a:solidFill>
                  <a:srgbClr val="ffffff"/>
                </a:solidFill>
                <a:latin typeface="FrutigerNext LT Regular"/>
                <a:ea typeface="华文细黑"/>
              </a:rPr>
              <a:t>: Aria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7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中文正文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18-20p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子目录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(2-5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级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):18pt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颜色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黑色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字体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细黑体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9199440" y="1424160"/>
            <a:ext cx="1049400" cy="20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华文细黑"/>
                <a:ea typeface="华文细黑"/>
              </a:rPr>
              <a:t>配色参考方案：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华文细黑"/>
                <a:ea typeface="华文细黑"/>
              </a:rPr>
              <a:t>建议同一页面内不超过四种颜色，以下是</a:t>
            </a:r>
            <a:r>
              <a:rPr b="0" lang="en-US" sz="1100" spc="-1" strike="noStrike">
                <a:solidFill>
                  <a:srgbClr val="ffffff"/>
                </a:solidFill>
                <a:latin typeface="华文细黑"/>
                <a:ea typeface="华文细黑"/>
              </a:rPr>
              <a:t>13</a:t>
            </a:r>
            <a:r>
              <a:rPr b="0" lang="zh-CN" sz="1100" spc="-1" strike="noStrike">
                <a:solidFill>
                  <a:srgbClr val="ffffff"/>
                </a:solidFill>
                <a:latin typeface="华文细黑"/>
                <a:ea typeface="华文细黑"/>
              </a:rPr>
              <a:t>组配色方案，同一页面内只选择一组使用。（仅供参考）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9199440" y="-61920"/>
            <a:ext cx="1049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华文细黑"/>
                <a:ea typeface="华文细黑"/>
              </a:rPr>
              <a:t>客户或者合作伙伴的标志放在右上角</a:t>
            </a:r>
            <a:r>
              <a:rPr b="0" lang="en-US" sz="1100" spc="-1" strike="noStrike">
                <a:solidFill>
                  <a:srgbClr val="ffffff"/>
                </a:solidFill>
                <a:latin typeface="华文细黑"/>
                <a:ea typeface="华文细黑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body"/>
          </p:nvPr>
        </p:nvSpPr>
        <p:spPr>
          <a:xfrm>
            <a:off x="651960" y="1641600"/>
            <a:ext cx="7929720" cy="41940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299880" indent="-299880">
              <a:lnSpc>
                <a:spcPct val="140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652320" indent="-25056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2" marL="1003320" indent="-20160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3" marL="1401840" indent="-200160">
              <a:lnSpc>
                <a:spcPct val="140000"/>
              </a:lnSpc>
              <a:buClr>
                <a:srgbClr val="000000"/>
              </a:buClr>
              <a:buFont typeface="FrutigerNext LT Medium"/>
              <a:buChar char="–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4" marL="1803240" indent="-201600">
              <a:lnSpc>
                <a:spcPct val="140000"/>
              </a:lnSpc>
              <a:buClr>
                <a:srgbClr val="000000"/>
              </a:buClr>
              <a:buFont typeface="FrutigerNext LT Medium"/>
              <a:buChar char="~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5" marL="1803240" indent="-201600">
              <a:lnSpc>
                <a:spcPct val="140000"/>
              </a:lnSpc>
              <a:buClr>
                <a:srgbClr val="000000"/>
              </a:buClr>
              <a:buFont typeface="FrutigerNext LT Medium"/>
              <a:buChar char="~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6" marL="1803240" indent="-201600">
              <a:lnSpc>
                <a:spcPct val="140000"/>
              </a:lnSpc>
              <a:buClr>
                <a:srgbClr val="000000"/>
              </a:buClr>
              <a:buFont typeface="FrutigerNext LT Medium"/>
              <a:buChar char="~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9" name=""/>
          <p:cNvSpPr/>
          <p:nvPr/>
        </p:nvSpPr>
        <p:spPr>
          <a:xfrm>
            <a:off x="9269280" y="3429000"/>
            <a:ext cx="919440" cy="349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" name=""/>
          <p:cNvGrpSpPr/>
          <p:nvPr/>
        </p:nvGrpSpPr>
        <p:grpSpPr>
          <a:xfrm>
            <a:off x="9354960" y="3789000"/>
            <a:ext cx="739800" cy="182520"/>
            <a:chOff x="9354960" y="3789000"/>
            <a:chExt cx="739800" cy="182520"/>
          </a:xfrm>
        </p:grpSpPr>
        <p:sp>
          <p:nvSpPr>
            <p:cNvPr id="11" name=""/>
            <p:cNvSpPr/>
            <p:nvPr/>
          </p:nvSpPr>
          <p:spPr>
            <a:xfrm flipV="1">
              <a:off x="9540720" y="3788640"/>
              <a:ext cx="184320" cy="18252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>
              <a:off x="9725040" y="3788640"/>
              <a:ext cx="183960" cy="18252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>
              <a:off x="9909000" y="3788640"/>
              <a:ext cx="185760" cy="182520"/>
            </a:xfrm>
            <a:prstGeom prst="rect">
              <a:avLst/>
            </a:prstGeom>
            <a:solidFill>
              <a:srgbClr val="9966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>
              <a:off x="9354960" y="3788640"/>
              <a:ext cx="185760" cy="18252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" name=""/>
          <p:cNvGrpSpPr/>
          <p:nvPr/>
        </p:nvGrpSpPr>
        <p:grpSpPr>
          <a:xfrm>
            <a:off x="9354960" y="4005000"/>
            <a:ext cx="739800" cy="182520"/>
            <a:chOff x="9354960" y="4005000"/>
            <a:chExt cx="739800" cy="182520"/>
          </a:xfrm>
        </p:grpSpPr>
        <p:sp>
          <p:nvSpPr>
            <p:cNvPr id="16" name=""/>
            <p:cNvSpPr/>
            <p:nvPr/>
          </p:nvSpPr>
          <p:spPr>
            <a:xfrm flipV="1">
              <a:off x="9540720" y="4004640"/>
              <a:ext cx="184320" cy="18252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flipV="1">
              <a:off x="9725040" y="4004640"/>
              <a:ext cx="183960" cy="182520"/>
            </a:xfrm>
            <a:prstGeom prst="rect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flipV="1">
              <a:off x="9909000" y="4004640"/>
              <a:ext cx="185760" cy="18252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>
              <a:off x="9354960" y="4004640"/>
              <a:ext cx="185760" cy="1825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" name=""/>
          <p:cNvGrpSpPr/>
          <p:nvPr/>
        </p:nvGrpSpPr>
        <p:grpSpPr>
          <a:xfrm>
            <a:off x="9354960" y="4221000"/>
            <a:ext cx="739800" cy="182880"/>
            <a:chOff x="9354960" y="4221000"/>
            <a:chExt cx="739800" cy="182880"/>
          </a:xfrm>
        </p:grpSpPr>
        <p:sp>
          <p:nvSpPr>
            <p:cNvPr id="21" name=""/>
            <p:cNvSpPr/>
            <p:nvPr/>
          </p:nvSpPr>
          <p:spPr>
            <a:xfrm flipV="1">
              <a:off x="9540720" y="4221000"/>
              <a:ext cx="184320" cy="182880"/>
            </a:xfrm>
            <a:prstGeom prst="rect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flipV="1">
              <a:off x="9725040" y="4221000"/>
              <a:ext cx="183960" cy="182880"/>
            </a:xfrm>
            <a:prstGeom prst="rect">
              <a:avLst/>
            </a:pr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>
              <a:off x="9909000" y="4221000"/>
              <a:ext cx="185760" cy="18288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flipV="1">
              <a:off x="9354960" y="4221000"/>
              <a:ext cx="185760" cy="182880"/>
            </a:xfrm>
            <a:prstGeom prst="rect">
              <a:avLst/>
            </a:prstGeom>
            <a:solidFill>
              <a:srgbClr val="cc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" name=""/>
          <p:cNvGrpSpPr/>
          <p:nvPr/>
        </p:nvGrpSpPr>
        <p:grpSpPr>
          <a:xfrm>
            <a:off x="9354960" y="3573000"/>
            <a:ext cx="739800" cy="189000"/>
            <a:chOff x="9354960" y="3573000"/>
            <a:chExt cx="739800" cy="189000"/>
          </a:xfrm>
        </p:grpSpPr>
        <p:sp>
          <p:nvSpPr>
            <p:cNvPr id="26" name=""/>
            <p:cNvSpPr/>
            <p:nvPr/>
          </p:nvSpPr>
          <p:spPr>
            <a:xfrm flipV="1">
              <a:off x="9725040" y="3572640"/>
              <a:ext cx="183960" cy="18900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flipV="1">
              <a:off x="9909000" y="3572640"/>
              <a:ext cx="185760" cy="189000"/>
            </a:xfrm>
            <a:prstGeom prst="rect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>
              <a:off x="9354960" y="3572640"/>
              <a:ext cx="185760" cy="1890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>
              <a:off x="9540720" y="3572640"/>
              <a:ext cx="184320" cy="18900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" name=""/>
          <p:cNvGrpSpPr/>
          <p:nvPr/>
        </p:nvGrpSpPr>
        <p:grpSpPr>
          <a:xfrm>
            <a:off x="9354960" y="4581360"/>
            <a:ext cx="739800" cy="182880"/>
            <a:chOff x="9354960" y="4581360"/>
            <a:chExt cx="739800" cy="182880"/>
          </a:xfrm>
        </p:grpSpPr>
        <p:sp>
          <p:nvSpPr>
            <p:cNvPr id="31" name=""/>
            <p:cNvSpPr/>
            <p:nvPr/>
          </p:nvSpPr>
          <p:spPr>
            <a:xfrm flipV="1">
              <a:off x="9540720" y="4581360"/>
              <a:ext cx="184320" cy="18288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>
              <a:off x="9725040" y="4581360"/>
              <a:ext cx="183960" cy="18288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 flipV="1">
              <a:off x="9909000" y="4581360"/>
              <a:ext cx="185760" cy="18288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 flipV="1">
              <a:off x="9354960" y="4581360"/>
              <a:ext cx="185760" cy="18288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" name=""/>
          <p:cNvGrpSpPr/>
          <p:nvPr/>
        </p:nvGrpSpPr>
        <p:grpSpPr>
          <a:xfrm>
            <a:off x="9354960" y="4797000"/>
            <a:ext cx="739800" cy="182520"/>
            <a:chOff x="9354960" y="4797000"/>
            <a:chExt cx="739800" cy="182520"/>
          </a:xfrm>
        </p:grpSpPr>
        <p:sp>
          <p:nvSpPr>
            <p:cNvPr id="36" name=""/>
            <p:cNvSpPr/>
            <p:nvPr/>
          </p:nvSpPr>
          <p:spPr>
            <a:xfrm flipV="1">
              <a:off x="9540720" y="4796640"/>
              <a:ext cx="184320" cy="18252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V="1">
              <a:off x="9725040" y="4796640"/>
              <a:ext cx="183960" cy="18252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flipV="1">
              <a:off x="9909000" y="4796640"/>
              <a:ext cx="185760" cy="1825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flipV="1">
              <a:off x="9354960" y="4796640"/>
              <a:ext cx="185760" cy="18252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" name=""/>
          <p:cNvGrpSpPr/>
          <p:nvPr/>
        </p:nvGrpSpPr>
        <p:grpSpPr>
          <a:xfrm>
            <a:off x="9354960" y="5013000"/>
            <a:ext cx="739800" cy="182520"/>
            <a:chOff x="9354960" y="5013000"/>
            <a:chExt cx="739800" cy="182520"/>
          </a:xfrm>
        </p:grpSpPr>
        <p:sp>
          <p:nvSpPr>
            <p:cNvPr id="41" name=""/>
            <p:cNvSpPr/>
            <p:nvPr/>
          </p:nvSpPr>
          <p:spPr>
            <a:xfrm flipV="1">
              <a:off x="9540720" y="5012640"/>
              <a:ext cx="184320" cy="18252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flipV="1">
              <a:off x="9725040" y="5012640"/>
              <a:ext cx="183960" cy="182520"/>
            </a:xfrm>
            <a:prstGeom prst="rect">
              <a:avLst/>
            </a:prstGeom>
            <a:solidFill>
              <a:srgbClr val="cc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V="1">
              <a:off x="9909000" y="5012640"/>
              <a:ext cx="185760" cy="182520"/>
            </a:xfrm>
            <a:prstGeom prst="rect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V="1">
              <a:off x="9354960" y="5012640"/>
              <a:ext cx="185760" cy="18252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" name=""/>
          <p:cNvGrpSpPr/>
          <p:nvPr/>
        </p:nvGrpSpPr>
        <p:grpSpPr>
          <a:xfrm>
            <a:off x="9354960" y="5373360"/>
            <a:ext cx="739800" cy="182520"/>
            <a:chOff x="9354960" y="5373360"/>
            <a:chExt cx="739800" cy="182520"/>
          </a:xfrm>
        </p:grpSpPr>
        <p:sp>
          <p:nvSpPr>
            <p:cNvPr id="46" name=""/>
            <p:cNvSpPr/>
            <p:nvPr/>
          </p:nvSpPr>
          <p:spPr>
            <a:xfrm flipV="1">
              <a:off x="9540720" y="5373000"/>
              <a:ext cx="184320" cy="18252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 flipV="1">
              <a:off x="9725040" y="5373000"/>
              <a:ext cx="183960" cy="18252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9909000" y="5373000"/>
              <a:ext cx="185760" cy="18252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V="1">
              <a:off x="9354960" y="5373000"/>
              <a:ext cx="185760" cy="182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9354960" y="5589360"/>
            <a:ext cx="739800" cy="182520"/>
            <a:chOff x="9354960" y="5589360"/>
            <a:chExt cx="739800" cy="182520"/>
          </a:xfrm>
        </p:grpSpPr>
        <p:sp>
          <p:nvSpPr>
            <p:cNvPr id="51" name=""/>
            <p:cNvSpPr/>
            <p:nvPr/>
          </p:nvSpPr>
          <p:spPr>
            <a:xfrm flipV="1">
              <a:off x="9540720" y="5589000"/>
              <a:ext cx="184320" cy="18252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V="1">
              <a:off x="9725040" y="5589000"/>
              <a:ext cx="183960" cy="18252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V="1">
              <a:off x="9909000" y="5589000"/>
              <a:ext cx="185760" cy="1825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9354960" y="5589000"/>
              <a:ext cx="185760" cy="182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9354960" y="5805000"/>
            <a:ext cx="739800" cy="182520"/>
            <a:chOff x="9354960" y="5805000"/>
            <a:chExt cx="739800" cy="182520"/>
          </a:xfrm>
        </p:grpSpPr>
        <p:sp>
          <p:nvSpPr>
            <p:cNvPr id="56" name=""/>
            <p:cNvSpPr/>
            <p:nvPr/>
          </p:nvSpPr>
          <p:spPr>
            <a:xfrm flipV="1">
              <a:off x="9540720" y="5804640"/>
              <a:ext cx="184320" cy="18252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9725040" y="5804640"/>
              <a:ext cx="183960" cy="182520"/>
            </a:xfrm>
            <a:prstGeom prst="rect">
              <a:avLst/>
            </a:prstGeom>
            <a:solidFill>
              <a:srgbClr val="cc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9909000" y="5804640"/>
              <a:ext cx="185760" cy="182520"/>
            </a:xfrm>
            <a:prstGeom prst="rect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V="1">
              <a:off x="9354960" y="5804640"/>
              <a:ext cx="185760" cy="182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9354960" y="6165360"/>
            <a:ext cx="739800" cy="182520"/>
            <a:chOff x="9354960" y="6165360"/>
            <a:chExt cx="739800" cy="182520"/>
          </a:xfrm>
        </p:grpSpPr>
        <p:sp>
          <p:nvSpPr>
            <p:cNvPr id="61" name=""/>
            <p:cNvSpPr/>
            <p:nvPr/>
          </p:nvSpPr>
          <p:spPr>
            <a:xfrm flipV="1">
              <a:off x="9540720" y="6165000"/>
              <a:ext cx="184320" cy="18252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>
              <a:off x="9725040" y="6165000"/>
              <a:ext cx="183960" cy="18252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 flipV="1">
              <a:off x="9909000" y="6165000"/>
              <a:ext cx="185760" cy="18252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9354960" y="6165000"/>
              <a:ext cx="185760" cy="18252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9354960" y="6391080"/>
            <a:ext cx="739800" cy="182520"/>
            <a:chOff x="9354960" y="6391080"/>
            <a:chExt cx="739800" cy="182520"/>
          </a:xfrm>
        </p:grpSpPr>
        <p:sp>
          <p:nvSpPr>
            <p:cNvPr id="66" name=""/>
            <p:cNvSpPr/>
            <p:nvPr/>
          </p:nvSpPr>
          <p:spPr>
            <a:xfrm flipV="1">
              <a:off x="9540720" y="6390720"/>
              <a:ext cx="184320" cy="18252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 flipV="1">
              <a:off x="9725040" y="6390720"/>
              <a:ext cx="183960" cy="18252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>
              <a:off x="9909000" y="6390720"/>
              <a:ext cx="185760" cy="1825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flipV="1">
              <a:off x="9354960" y="6390720"/>
              <a:ext cx="185760" cy="18252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9354960" y="6614640"/>
            <a:ext cx="739800" cy="182520"/>
            <a:chOff x="9354960" y="6614640"/>
            <a:chExt cx="739800" cy="182520"/>
          </a:xfrm>
        </p:grpSpPr>
        <p:sp>
          <p:nvSpPr>
            <p:cNvPr id="71" name=""/>
            <p:cNvSpPr/>
            <p:nvPr/>
          </p:nvSpPr>
          <p:spPr>
            <a:xfrm flipV="1">
              <a:off x="9540720" y="6614280"/>
              <a:ext cx="184320" cy="18252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flipV="1">
              <a:off x="9725040" y="6614280"/>
              <a:ext cx="183960" cy="18252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V="1">
              <a:off x="9909000" y="6614280"/>
              <a:ext cx="185760" cy="18252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 flipV="1">
              <a:off x="9354960" y="6614280"/>
              <a:ext cx="185760" cy="18252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7508880" y="5589720"/>
            <a:ext cx="763560" cy="763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0" y="782640"/>
            <a:ext cx="9144000" cy="380988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36120" y="1391760"/>
            <a:ext cx="5303880" cy="16671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4300" spc="-1" strike="noStrike">
                <a:solidFill>
                  <a:srgbClr val="ffffff"/>
                </a:solidFill>
                <a:latin typeface="FrutigerNext LT Medium"/>
              </a:rPr>
              <a:t>Click to edit the title text format</a:t>
            </a:r>
            <a:endParaRPr b="1" lang="en-US" sz="4300" spc="-1" strike="noStrike">
              <a:solidFill>
                <a:srgbClr val="ffffff"/>
              </a:solidFill>
              <a:latin typeface="FrutigerNext LT Medium"/>
            </a:endParaRPr>
          </a:p>
        </p:txBody>
      </p:sp>
      <p:sp>
        <p:nvSpPr>
          <p:cNvPr id="114" name=""/>
          <p:cNvSpPr/>
          <p:nvPr/>
        </p:nvSpPr>
        <p:spPr>
          <a:xfrm>
            <a:off x="555480" y="6207120"/>
            <a:ext cx="2813040" cy="2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0280" rIns="8028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rutigerNext LT Bold"/>
              </a:rPr>
              <a:t>HUAWEI TECHNOLOGIES CO., LT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174800" y="4094280"/>
            <a:ext cx="1433880" cy="2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0280" rIns="8028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utigerNext LT Regular"/>
              </a:rPr>
              <a:t>www.huawei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2"/>
          </p:nvPr>
        </p:nvSpPr>
        <p:spPr>
          <a:xfrm>
            <a:off x="684360" y="282600"/>
            <a:ext cx="2133360" cy="47448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  <a:defRPr b="0" lang="zh-CN" sz="1200" spc="-1" strike="noStrike">
                <a:solidFill>
                  <a:srgbClr val="000000"/>
                </a:solidFill>
                <a:latin typeface="FrutigerNext LT Regular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fld id="{7BC2CA8F-1BD6-409D-8686-A2D65F21428B}" type="datetime">
              <a:rPr b="0" lang="zh-CN" sz="1200" spc="-1" strike="noStrike">
                <a:solidFill>
                  <a:srgbClr val="000000"/>
                </a:solidFill>
                <a:latin typeface="FrutigerNext LT Regular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-1968480" y="1322280"/>
            <a:ext cx="1968480" cy="37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英文标题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40-47pt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副标题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26-30p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字体颜色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反白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内部使用字体 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FrutigerNext LT Mediu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外部使用字体 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 Aria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中文标题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35-47p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字体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黑体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  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副标题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24-28p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字体颜色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反白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字体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细黑体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spcBef>
                <a:spcPts val="689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4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华文细黑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华文细黑"/>
            </a:endParaRPr>
          </a:p>
          <a:p>
            <a:pPr lvl="1" marL="401760" algn="ctr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utigerNext LT Regular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FrutigerNext LT Regular"/>
            </a:endParaRPr>
          </a:p>
          <a:p>
            <a:pPr lvl="2" marL="801720" algn="ctr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utigerNext LT Light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FrutigerNext LT Light"/>
            </a:endParaRPr>
          </a:p>
          <a:p>
            <a:pPr lvl="3" marL="1201680" algn="ctr">
              <a:lnSpc>
                <a:spcPct val="140000"/>
              </a:lnSpc>
              <a:buClr>
                <a:srgbClr val="000000"/>
              </a:buClr>
              <a:buFont typeface="FrutigerNext LT Medium"/>
              <a:buChar char="–"/>
              <a:tabLst>
                <a:tab algn="l" pos="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utigerNext LT Medium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FrutigerNext LT Medium"/>
            </a:endParaRPr>
          </a:p>
          <a:p>
            <a:pPr lvl="4" marL="1601640" algn="ctr">
              <a:lnSpc>
                <a:spcPct val="140000"/>
              </a:lnSpc>
              <a:buClr>
                <a:srgbClr val="000000"/>
              </a:buClr>
              <a:buFont typeface="FrutigerNext LT Medium"/>
              <a:buChar char="~"/>
              <a:tabLst>
                <a:tab algn="l" pos="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rutigerNext LT Medium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FrutigerNext LT Medium"/>
            </a:endParaRPr>
          </a:p>
          <a:p>
            <a:pPr lvl="5" marL="1601640">
              <a:spcBef>
                <a:spcPts val="300"/>
              </a:spcBef>
              <a:buClr>
                <a:srgbClr val="000000"/>
              </a:buClr>
              <a:buFont typeface="FrutigerNext LT Medium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rutigerNext LT Medium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FrutigerNext LT Medium"/>
            </a:endParaRPr>
          </a:p>
          <a:p>
            <a:pPr lvl="6" marL="1601640">
              <a:spcBef>
                <a:spcPts val="300"/>
              </a:spcBef>
              <a:buClr>
                <a:srgbClr val="000000"/>
              </a:buClr>
              <a:buFont typeface="FrutigerNext LT Medium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rutigerNext LT Medium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FrutigerNext LT Mediu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45360" bIns="4536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51960" y="638280"/>
            <a:ext cx="7929720" cy="8697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3500" spc="-1" strike="noStrike">
                <a:solidFill>
                  <a:srgbClr val="990000"/>
                </a:solidFill>
                <a:latin typeface="Arial"/>
              </a:rPr>
              <a:t>Click to edit the title text format</a:t>
            </a:r>
            <a:endParaRPr b="0" lang="en-US" sz="35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51960" y="1641600"/>
            <a:ext cx="7929720" cy="41940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299880" indent="-29988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52320" indent="-25056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03320" indent="-20160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401840" indent="-200160">
              <a:lnSpc>
                <a:spcPct val="140000"/>
              </a:lnSpc>
              <a:buClr>
                <a:srgbClr val="000000"/>
              </a:buClr>
              <a:buFont typeface="Arial"/>
              <a:buChar char="–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803240" indent="-201600">
              <a:lnSpc>
                <a:spcPct val="140000"/>
              </a:lnSpc>
              <a:buClr>
                <a:srgbClr val="000000"/>
              </a:buClr>
              <a:buFont typeface="Arial"/>
              <a:buChar char="~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803240" indent="-201600">
              <a:lnSpc>
                <a:spcPct val="140000"/>
              </a:lnSpc>
              <a:buClr>
                <a:srgbClr val="000000"/>
              </a:buClr>
              <a:buFont typeface="Arial"/>
              <a:buChar char="~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803240" indent="-201600">
              <a:lnSpc>
                <a:spcPct val="140000"/>
              </a:lnSpc>
              <a:buClr>
                <a:srgbClr val="000000"/>
              </a:buClr>
              <a:buFont typeface="Arial"/>
              <a:buChar char="~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-1844640" y="898560"/>
            <a:ext cx="1844640" cy="530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rmAutofit/>
          </a:bodyPr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英文目录标题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35-40pt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颜色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 R153 G0 B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内部使用字体 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FrutigerNext LT Mediu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外部使用字体 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 Aria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中文目录标题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35-40pt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颜色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 R153 G0 B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字体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黑体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英文目录正文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28-30p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子目录 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(2-5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级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) :20-30pt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颜色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黑色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内部使用字体 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FrutigerNext LT Regula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外部使用字体 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 Aria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中文目录正文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28-30p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子目录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(2-5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级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):20-30pt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颜色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黑色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字体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细黑体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0" y="5897520"/>
            <a:ext cx="9144000" cy="100332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3233880" y="2674800"/>
            <a:ext cx="2779920" cy="7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520" rIns="83520" tIns="41760" bIns="41760" anchor="t">
            <a:spAutoFit/>
          </a:bodyPr>
          <a:p>
            <a:pPr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4400" spc="-1" strike="noStrike">
                <a:solidFill>
                  <a:srgbClr val="990000"/>
                </a:solidFill>
                <a:latin typeface="Arial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273480" y="3435480"/>
            <a:ext cx="2745000" cy="47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520" rIns="83520" tIns="41760" bIns="41760" anchor="t">
            <a:spAutoFit/>
          </a:bodyPr>
          <a:p>
            <a:pPr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2600" spc="-1" strike="noStrike">
                <a:solidFill>
                  <a:srgbClr val="666666"/>
                </a:solidFill>
                <a:latin typeface="Arial"/>
              </a:rPr>
              <a:t>www.huawei.c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3800" spc="-1" strike="noStrike">
                <a:solidFill>
                  <a:srgbClr val="99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9880" indent="-299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2320" indent="-25056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003320" indent="-201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01840" indent="-200160"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1803240" indent="-201600">
              <a:spcBef>
                <a:spcPts val="425"/>
              </a:spcBef>
              <a:buClr>
                <a:srgbClr val="000000"/>
              </a:buClr>
              <a:buFont typeface="Arial"/>
              <a:buChar char="»"/>
              <a:tabLst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5" marL="1803240" indent="-201600">
              <a:spcBef>
                <a:spcPts val="4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6" marL="1803240" indent="-201600">
              <a:spcBef>
                <a:spcPts val="4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39280" y="980640"/>
            <a:ext cx="6193080" cy="309564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FrutigerNext LT Medium"/>
              </a:rPr>
              <a:t>Huawei's IBIS model quality specification and technology</a:t>
            </a:r>
            <a:br>
              <a:rPr sz="2800"/>
            </a:br>
            <a:br>
              <a:rPr sz="2800"/>
            </a:br>
            <a:r>
              <a:rPr b="0" lang="en-US" sz="2000" spc="-1" strike="noStrike">
                <a:solidFill>
                  <a:srgbClr val="ffffff"/>
                </a:solidFill>
                <a:latin typeface="FrutigerNext LT Medium"/>
              </a:rPr>
              <a:t>Asian IBIS Summit, Shanghai China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FrutigerNext LT Medium"/>
              </a:rPr>
              <a:t>November 4, 2009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FrutigerNext LT Medium"/>
              </a:rPr>
              <a:t>Liju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FrutigerNext LT Medium"/>
              </a:rPr>
              <a:t>Huawei Technologies Co., LTD</a:t>
            </a:r>
            <a:br>
              <a:rPr sz="2000"/>
            </a:br>
            <a:r>
              <a:rPr b="0" lang="en-US" sz="2000" spc="-1" strike="noStrike" u="sng">
                <a:solidFill>
                  <a:srgbClr val="ffffff"/>
                </a:solidFill>
                <a:uFillTx/>
                <a:latin typeface="FrutigerNext LT Medium"/>
              </a:rPr>
              <a:t>june_lee@huawei.com</a:t>
            </a:r>
            <a:endParaRPr b="1" lang="en-US" sz="2000" spc="-1" strike="noStrike">
              <a:solidFill>
                <a:srgbClr val="ffffff"/>
              </a:solidFill>
              <a:latin typeface="FrutigerNext LT Medium"/>
            </a:endParaRPr>
          </a:p>
        </p:txBody>
      </p:sp>
      <p:sp>
        <p:nvSpPr>
          <p:cNvPr id="244" name="DtsShapeName" hidden="1"/>
          <p:cNvSpPr/>
          <p:nvPr/>
        </p:nvSpPr>
        <p:spPr>
          <a:xfrm>
            <a:off x="0" y="0"/>
            <a:ext cx="1440" cy="1440"/>
          </a:xfrm>
          <a:custGeom>
            <a:avLst/>
            <a:gdLst>
              <a:gd name="textAreaLeft" fmla="*/ 360 w 1440"/>
              <a:gd name="textAreaRight" fmla="*/ 1080 w 1440"/>
              <a:gd name="textAreaTop" fmla="*/ 0 h 1440"/>
              <a:gd name="textAreaBottom" fmla="*/ 1080 h 14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-38520" bIns="-385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871F702E-9D0F-4351-99DD-AD8B9EA3CF4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250920" y="260280"/>
            <a:ext cx="774540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0" y="2509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-39240" bIns="-392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50920" y="189000"/>
            <a:ext cx="490356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3000" spc="-1" strike="noStrike">
                <a:solidFill>
                  <a:srgbClr val="990000"/>
                </a:solidFill>
                <a:latin typeface="FrutigerNext LT Medium"/>
                <a:ea typeface="黑体"/>
              </a:rPr>
              <a:t>Correction Methodolog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993600" y="933840"/>
            <a:ext cx="6624720" cy="93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Topology.</a:t>
            </a:r>
            <a:r>
              <a:rPr b="1" lang="zh-CN" sz="2000" spc="-1" strike="noStrike">
                <a:solidFill>
                  <a:srgbClr val="000000"/>
                </a:solidFill>
                <a:latin typeface="FrutigerNext LT Regular"/>
              </a:rPr>
              <a:t>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utigerNext LT Regular"/>
              </a:rPr>
              <a:t>Driver          →               Interconnect          →      Recei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>
            <a:off x="1077840" y="1938240"/>
            <a:ext cx="6446880" cy="3600720"/>
          </a:xfrm>
          <a:prstGeom prst="rect">
            <a:avLst/>
          </a:prstGeom>
          <a:ln w="0">
            <a:noFill/>
          </a:ln>
        </p:spPr>
      </p:pic>
      <p:sp>
        <p:nvSpPr>
          <p:cNvPr id="293" name=""/>
          <p:cNvSpPr/>
          <p:nvPr/>
        </p:nvSpPr>
        <p:spPr>
          <a:xfrm>
            <a:off x="900000" y="5589720"/>
            <a:ext cx="7488360" cy="353880"/>
          </a:xfrm>
          <a:prstGeom prst="rect">
            <a:avLst/>
          </a:prstGeom>
          <a:noFill/>
          <a:ln w="19080">
            <a:solidFill>
              <a:srgbClr val="99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utigerNext LT Regular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FrutigerNext LT Regular"/>
              </a:rPr>
              <a:t>It’s important</a:t>
            </a:r>
            <a:r>
              <a:rPr b="0" lang="en-US" sz="1800" spc="-1" strike="noStrike">
                <a:solidFill>
                  <a:srgbClr val="ffffff"/>
                </a:solidFill>
                <a:latin typeface="FrutigerNext LT Regular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FrutigerNext LT Regular"/>
              </a:rPr>
              <a:t>to keep consistent with the channel1 and channel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1979640" y="3218040"/>
            <a:ext cx="1584360" cy="504720"/>
          </a:xfrm>
          <a:prstGeom prst="ellipse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288479-2232-43A7-8AE9-58D761B2710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250920" y="260280"/>
            <a:ext cx="774540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0" y="2509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-39240" bIns="-392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684360" y="892080"/>
            <a:ext cx="755964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611280" y="981000"/>
            <a:ext cx="7993080" cy="12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FrutigerNext LT Regular"/>
                <a:ea typeface="宋体"/>
              </a:rPr>
              <a:t>（</a:t>
            </a:r>
            <a:r>
              <a:rPr b="1" lang="en-US" sz="1600" spc="-1" strike="noStrike">
                <a:solidFill>
                  <a:srgbClr val="000000"/>
                </a:solidFill>
                <a:latin typeface="FrutigerNext LT Regular"/>
                <a:ea typeface="宋体"/>
              </a:rPr>
              <a:t>1</a:t>
            </a:r>
            <a:r>
              <a:rPr b="1" lang="zh-CN" sz="1600" spc="-1" strike="noStrike">
                <a:solidFill>
                  <a:srgbClr val="000000"/>
                </a:solidFill>
                <a:latin typeface="FrutigerNext LT Regular"/>
                <a:ea typeface="宋体"/>
              </a:rPr>
              <a:t>）</a:t>
            </a:r>
            <a:r>
              <a:rPr b="1" lang="en-US" sz="1600" spc="-1" strike="noStrike">
                <a:solidFill>
                  <a:srgbClr val="000000"/>
                </a:solidFill>
                <a:latin typeface="FrutigerNext LT Regular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FrutigerNext LT Regular"/>
                <a:ea typeface="宋体"/>
              </a:rPr>
              <a:t>PKG 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utigerNext LT Regular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FrutigerNext LT Regular"/>
              </a:rPr>
              <a:t>PKG and C_comp parameters should match the datasheet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utigerNext LT Regular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FrutigerNext LT Regular"/>
              </a:rPr>
              <a:t>PKG and C_comp model should match the TDR curv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0" y="135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-39240" bIns="-392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5329080" y="4941360"/>
            <a:ext cx="361476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FrutigerNext LT Regular"/>
                <a:ea typeface="宋体"/>
              </a:rPr>
              <a:t>其主导因素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FrutigerNext LT Regular"/>
              </a:rPr>
              <a:t>1) </a:t>
            </a:r>
            <a:r>
              <a:rPr b="0" lang="zh-CN" sz="1400" spc="-1" strike="noStrike">
                <a:solidFill>
                  <a:srgbClr val="ffffff"/>
                </a:solidFill>
                <a:latin typeface="FrutigerNext LT Regular"/>
              </a:rPr>
              <a:t>保持</a:t>
            </a:r>
            <a:r>
              <a:rPr b="0" lang="en-US" sz="1400" spc="-1" strike="noStrike">
                <a:solidFill>
                  <a:srgbClr val="ffffff"/>
                </a:solidFill>
                <a:latin typeface="FrutigerNext LT Regular"/>
              </a:rPr>
              <a:t>C-comp</a:t>
            </a:r>
            <a:r>
              <a:rPr b="0" lang="zh-CN" sz="1400" spc="-1" strike="noStrike">
                <a:solidFill>
                  <a:srgbClr val="ffffff"/>
                </a:solidFill>
                <a:latin typeface="FrutigerNext LT Regular"/>
              </a:rPr>
              <a:t>不变，改变边沿速率（</a:t>
            </a:r>
            <a:r>
              <a:rPr b="0" lang="en-US" sz="1400" spc="-1" strike="noStrike">
                <a:solidFill>
                  <a:srgbClr val="ffffff"/>
                </a:solidFill>
                <a:latin typeface="FrutigerNext LT Regular"/>
              </a:rPr>
              <a:t>Ramp data</a:t>
            </a:r>
            <a:r>
              <a:rPr b="0" lang="zh-CN" sz="1400" spc="-1" strike="noStrike">
                <a:solidFill>
                  <a:srgbClr val="ffffff"/>
                </a:solidFill>
                <a:latin typeface="FrutigerNext LT Regular"/>
              </a:rPr>
              <a:t>）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FrutigerNext LT Regular"/>
              </a:rPr>
              <a:t>2) </a:t>
            </a:r>
            <a:r>
              <a:rPr b="0" lang="zh-CN" sz="1400" spc="-1" strike="noStrike">
                <a:solidFill>
                  <a:srgbClr val="ffffff"/>
                </a:solidFill>
                <a:latin typeface="FrutigerNext LT Regular"/>
              </a:rPr>
              <a:t>保持边沿速率不变，改变</a:t>
            </a:r>
            <a:r>
              <a:rPr b="0" lang="en-US" sz="1400" spc="-1" strike="noStrike">
                <a:solidFill>
                  <a:srgbClr val="ffffff"/>
                </a:solidFill>
                <a:latin typeface="FrutigerNext LT Regular"/>
              </a:rPr>
              <a:t>C-comp</a:t>
            </a:r>
            <a:r>
              <a:rPr b="0" lang="zh-CN" sz="1400" spc="-1" strike="noStrike">
                <a:solidFill>
                  <a:srgbClr val="ffffff"/>
                </a:solidFill>
                <a:latin typeface="FrutigerNext LT Regular"/>
              </a:rPr>
              <a:t>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268200" y="149400"/>
            <a:ext cx="490392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3000" spc="-1" strike="noStrike">
                <a:solidFill>
                  <a:srgbClr val="990000"/>
                </a:solidFill>
                <a:latin typeface="FrutigerNext LT Medium"/>
                <a:ea typeface="黑体"/>
              </a:rPr>
              <a:t>Correction Methodolog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5003640" y="2924280"/>
            <a:ext cx="3384720" cy="2346120"/>
          </a:xfrm>
          <a:prstGeom prst="rect">
            <a:avLst/>
          </a:prstGeom>
          <a:ln w="0">
            <a:noFill/>
          </a:ln>
        </p:spPr>
      </p:pic>
      <p:pic>
        <p:nvPicPr>
          <p:cNvPr id="303" name="" descr=""/>
          <p:cNvPicPr/>
          <p:nvPr/>
        </p:nvPicPr>
        <p:blipFill>
          <a:blip r:embed="rId2"/>
          <a:stretch/>
        </p:blipFill>
        <p:spPr>
          <a:xfrm>
            <a:off x="395280" y="2852640"/>
            <a:ext cx="4176720" cy="2376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44FAA4-62CF-4FA8-976A-517BDFAA25B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250920" y="260280"/>
            <a:ext cx="774540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0" y="2509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-39240" bIns="-392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49280" y="703440"/>
            <a:ext cx="8370720" cy="53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FrutigerNext LT Regular"/>
                <a:ea typeface="宋体"/>
              </a:rPr>
              <a:t>（</a:t>
            </a:r>
            <a:r>
              <a:rPr b="1" lang="en-US" sz="1600" spc="-1" strike="noStrike">
                <a:solidFill>
                  <a:srgbClr val="000000"/>
                </a:solidFill>
                <a:latin typeface="FrutigerNext LT Regular"/>
                <a:ea typeface="宋体"/>
              </a:rPr>
              <a:t>2</a:t>
            </a:r>
            <a:r>
              <a:rPr b="1" lang="zh-CN" sz="1600" spc="-1" strike="noStrike">
                <a:solidFill>
                  <a:srgbClr val="000000"/>
                </a:solidFill>
                <a:latin typeface="FrutigerNext LT Regular"/>
                <a:ea typeface="宋体"/>
              </a:rPr>
              <a:t>）</a:t>
            </a:r>
            <a:r>
              <a:rPr b="1" lang="en-US" sz="1600" spc="-1" strike="noStrike">
                <a:solidFill>
                  <a:srgbClr val="000000"/>
                </a:solidFill>
                <a:latin typeface="FrutigerNext LT Regular"/>
                <a:ea typeface="宋体"/>
              </a:rPr>
              <a:t>VI/VT data  table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1619280" y="2276640"/>
            <a:ext cx="5329080" cy="28080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250920" y="189000"/>
            <a:ext cx="490356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3000" spc="-1" strike="noStrike">
                <a:solidFill>
                  <a:srgbClr val="990000"/>
                </a:solidFill>
                <a:latin typeface="FrutigerNext LT Medium"/>
                <a:ea typeface="黑体"/>
              </a:rPr>
              <a:t>Correction Methodolog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984960" y="1413000"/>
            <a:ext cx="6639120" cy="8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utigerNext LT Regular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FrutigerNext LT Regular"/>
              </a:rPr>
              <a:t>VI/VT  data is not really accuracy, should be adjusted sometimes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utigerNext LT Regular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FrutigerNext LT Regular"/>
              </a:rPr>
              <a:t>Rubbish  VI/VT  data in, rubbish  waveform ou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053639-30FF-4EAD-8C88-A23CBD401FE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250920" y="260280"/>
            <a:ext cx="774540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0" y="2509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-39240" bIns="-392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395280" y="981000"/>
            <a:ext cx="8424720" cy="12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FrutigerNext LT Regular"/>
                <a:ea typeface="宋体"/>
              </a:rPr>
              <a:t>（</a:t>
            </a:r>
            <a:r>
              <a:rPr b="1" lang="en-US" sz="1600" spc="-1" strike="noStrike">
                <a:solidFill>
                  <a:srgbClr val="000000"/>
                </a:solidFill>
                <a:latin typeface="FrutigerNext LT Regular"/>
                <a:ea typeface="宋体"/>
              </a:rPr>
              <a:t>3</a:t>
            </a:r>
            <a:r>
              <a:rPr b="1" lang="zh-CN" sz="1600" spc="-1" strike="noStrike">
                <a:solidFill>
                  <a:srgbClr val="000000"/>
                </a:solidFill>
                <a:latin typeface="FrutigerNext LT Regular"/>
                <a:ea typeface="宋体"/>
              </a:rPr>
              <a:t>） </a:t>
            </a:r>
            <a:r>
              <a:rPr b="1" lang="en-US" sz="1600" spc="-1" strike="noStrike">
                <a:solidFill>
                  <a:srgbClr val="000000"/>
                </a:solidFill>
                <a:latin typeface="FrutigerNext LT Regular"/>
                <a:ea typeface="宋体"/>
              </a:rPr>
              <a:t>Macro model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FrutigerNext LT Regular"/>
                <a:ea typeface="宋体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FrutigerNext LT Regular"/>
                <a:ea typeface="宋体"/>
              </a:rPr>
              <a:t>More faster rising edge, more SSN</a:t>
            </a:r>
            <a:r>
              <a:rPr b="0" lang="zh-CN" sz="1600" spc="-1" strike="noStrike">
                <a:solidFill>
                  <a:srgbClr val="000000"/>
                </a:solidFill>
                <a:latin typeface="FrutigerNext LT Regular"/>
                <a:ea typeface="宋体"/>
              </a:rPr>
              <a:t>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utigerNext LT Regular"/>
                <a:ea typeface="宋体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FrutigerNext LT Regular"/>
                <a:ea typeface="宋体"/>
              </a:rPr>
              <a:t>Traditional IBIS could not support SSN model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50920" y="189000"/>
            <a:ext cx="490356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3000" spc="-1" strike="noStrike">
                <a:solidFill>
                  <a:srgbClr val="990000"/>
                </a:solidFill>
                <a:latin typeface="FrutigerNext LT Medium"/>
                <a:ea typeface="黑体"/>
              </a:rPr>
              <a:t>Correction Methodolog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4500720" y="2349360"/>
            <a:ext cx="3587760" cy="2257560"/>
          </a:xfrm>
          <a:prstGeom prst="rect">
            <a:avLst/>
          </a:prstGeom>
          <a:ln w="0">
            <a:noFill/>
          </a:ln>
        </p:spPr>
      </p:pic>
      <p:pic>
        <p:nvPicPr>
          <p:cNvPr id="315" name="" descr=""/>
          <p:cNvPicPr/>
          <p:nvPr/>
        </p:nvPicPr>
        <p:blipFill>
          <a:blip r:embed="rId2"/>
          <a:stretch/>
        </p:blipFill>
        <p:spPr>
          <a:xfrm>
            <a:off x="395280" y="2205000"/>
            <a:ext cx="3600360" cy="2519280"/>
          </a:xfrm>
          <a:prstGeom prst="rect">
            <a:avLst/>
          </a:prstGeom>
          <a:ln w="0">
            <a:noFill/>
          </a:ln>
        </p:spPr>
      </p:pic>
      <p:sp>
        <p:nvSpPr>
          <p:cNvPr id="316" name=""/>
          <p:cNvSpPr/>
          <p:nvPr/>
        </p:nvSpPr>
        <p:spPr>
          <a:xfrm>
            <a:off x="644760" y="5013360"/>
            <a:ext cx="603072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FrutigerNext LT Regular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FrutigerNext LT Regular"/>
              </a:rPr>
              <a:t>We add a behavioral current source  in  IBIS, modeling the SS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FrutigerNext LT Regular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FrutigerNext LT Regular"/>
              </a:rPr>
              <a:t>Would Improve the simulation accura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093446-EF17-47D3-BEC4-81C5A50242C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250920" y="260280"/>
            <a:ext cx="774540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85640" y="2708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-39240" bIns="-392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Picture 10" descr=""/>
          <p:cNvPicPr/>
          <p:nvPr/>
        </p:nvPicPr>
        <p:blipFill>
          <a:blip r:embed="rId1"/>
          <a:stretch/>
        </p:blipFill>
        <p:spPr>
          <a:xfrm>
            <a:off x="611280" y="1413000"/>
            <a:ext cx="3598920" cy="1800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20" name="Picture 9" descr=""/>
          <p:cNvPicPr/>
          <p:nvPr/>
        </p:nvPicPr>
        <p:blipFill>
          <a:blip r:embed="rId2"/>
          <a:stretch/>
        </p:blipFill>
        <p:spPr>
          <a:xfrm>
            <a:off x="4284720" y="1413000"/>
            <a:ext cx="3598920" cy="1800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21" name=""/>
          <p:cNvSpPr/>
          <p:nvPr/>
        </p:nvSpPr>
        <p:spPr>
          <a:xfrm>
            <a:off x="755640" y="3347640"/>
            <a:ext cx="705636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FrutigerNext LT Regular"/>
              </a:rPr>
              <a:t>吻合度参数： </a:t>
            </a:r>
            <a:r>
              <a:rPr b="1" lang="en-US" sz="1400" spc="-1" strike="noStrike">
                <a:solidFill>
                  <a:srgbClr val="000000"/>
                </a:solidFill>
                <a:latin typeface="FrutigerNext LT Regular"/>
              </a:rPr>
              <a:t>35%   </a:t>
            </a:r>
            <a:r>
              <a:rPr b="1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400" spc="-1" strike="noStrike">
                <a:solidFill>
                  <a:srgbClr val="000000"/>
                </a:solidFill>
                <a:latin typeface="FrutigerNext LT Regular"/>
              </a:rPr>
              <a:t>             15%            </a:t>
            </a:r>
            <a:r>
              <a:rPr b="1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400" spc="-1" strike="noStrike">
                <a:solidFill>
                  <a:srgbClr val="000000"/>
                </a:solidFill>
                <a:latin typeface="FrutigerNext LT Regular"/>
              </a:rPr>
              <a:t>              10%            </a:t>
            </a:r>
            <a:r>
              <a:rPr b="1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400" spc="-1" strike="noStrike">
                <a:solidFill>
                  <a:srgbClr val="000000"/>
                </a:solidFill>
                <a:latin typeface="FrutigerNext LT Regular"/>
              </a:rPr>
              <a:t>            5%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520560" y="905040"/>
            <a:ext cx="2303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utigerNext LT Regular"/>
              </a:rPr>
              <a:t>Correction case</a:t>
            </a:r>
            <a:r>
              <a:rPr b="1" lang="zh-CN" sz="1800" spc="-1" strike="noStrike">
                <a:solidFill>
                  <a:srgbClr val="000000"/>
                </a:solidFill>
                <a:latin typeface="FrutigerNext LT Regular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3"/>
          <a:stretch/>
        </p:blipFill>
        <p:spPr>
          <a:xfrm>
            <a:off x="250920" y="5661000"/>
            <a:ext cx="288720" cy="249120"/>
          </a:xfrm>
          <a:prstGeom prst="rect">
            <a:avLst/>
          </a:prstGeom>
          <a:ln w="0">
            <a:noFill/>
          </a:ln>
        </p:spPr>
      </p:pic>
      <p:sp>
        <p:nvSpPr>
          <p:cNvPr id="324" name=""/>
          <p:cNvSpPr/>
          <p:nvPr/>
        </p:nvSpPr>
        <p:spPr>
          <a:xfrm>
            <a:off x="239760" y="144360"/>
            <a:ext cx="49039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3000" spc="-1" strike="noStrike">
                <a:solidFill>
                  <a:srgbClr val="990000"/>
                </a:solidFill>
                <a:latin typeface="FrutigerNext LT Medium"/>
                <a:ea typeface="黑体"/>
              </a:rPr>
              <a:t>Correction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684360" y="4138920"/>
            <a:ext cx="7704000" cy="322920"/>
          </a:xfrm>
          <a:prstGeom prst="rect">
            <a:avLst/>
          </a:prstGeom>
          <a:noFill/>
          <a:ln w="9360">
            <a:solidFill>
              <a:srgbClr val="99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FrutigerNext LT Regular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FrutigerNext LT Regular"/>
              </a:rPr>
              <a:t>The correction technology improved the model quality significant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C689D3-DED3-430C-819F-75735EBBE10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250920" y="260280"/>
            <a:ext cx="774540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485640" y="2708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-39240" bIns="-392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250920" y="5661000"/>
            <a:ext cx="288720" cy="24912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>
            <a:off x="684360" y="692280"/>
            <a:ext cx="490356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3000" spc="-1" strike="noStrike">
                <a:solidFill>
                  <a:srgbClr val="990000"/>
                </a:solidFill>
                <a:latin typeface="FrutigerNext LT Medium"/>
                <a:ea typeface="黑体"/>
              </a:rPr>
              <a:t>Conclu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684360" y="1268280"/>
            <a:ext cx="7704000" cy="254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utigerNext LT Regular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FrutigerNext LT Regular"/>
              </a:rPr>
              <a:t>Huawei follows the IQ Spec, but more detaile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FrutigerNext LT Regular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FrutigerNext LT Regular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FrutigerNext LT Regular"/>
              </a:rPr>
              <a:t>Actual PCB measurement based correlation is significance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FrutigerNext LT Regular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FrutigerNext LT Regular"/>
              </a:rPr>
              <a:t>Model correction technology  is a good way  to improve model quality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utigerNext LT Regular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FrutigerNext LT Regular"/>
              </a:rPr>
              <a:t>Expect to </a:t>
            </a:r>
            <a:r>
              <a:rPr b="0" lang="zh-CN" sz="1800" spc="-1" strike="noStrike">
                <a:solidFill>
                  <a:srgbClr val="000000"/>
                </a:solidFill>
                <a:latin typeface="FrutigerNext LT Regular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FrutigerNext LT Regular"/>
              </a:rPr>
              <a:t>release IBIS correction technology spec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B70725-79DC-4092-A055-053DEEA614A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485640" y="2708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-39240" bIns="-392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250920" y="5661000"/>
            <a:ext cx="288720" cy="24912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/>
          <p:nvPr/>
        </p:nvSpPr>
        <p:spPr>
          <a:xfrm>
            <a:off x="450720" y="480960"/>
            <a:ext cx="7920000" cy="47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3000" spc="-1" strike="noStrike">
                <a:solidFill>
                  <a:srgbClr val="990000"/>
                </a:solidFill>
                <a:latin typeface="FrutigerNext LT Medium"/>
                <a:ea typeface="黑体"/>
              </a:rPr>
              <a:t>Referen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utigerNext LT Regular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FrutigerNext LT Regular"/>
              </a:rPr>
              <a:t>Official IBIS Website, including tools, articles, specific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utigerNext LT Regular"/>
              </a:rPr>
              <a:t>– </a:t>
            </a:r>
            <a:r>
              <a:rPr b="0" lang="en-US" sz="1400" spc="-1" strike="noStrike">
                <a:solidFill>
                  <a:srgbClr val="000000"/>
                </a:solidFill>
                <a:latin typeface="FrutigerNext LT Regular"/>
              </a:rPr>
              <a:t>http://www.eigroup.org/ibis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FrutigerNext LT Regular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FrutigerNext LT Regular"/>
              </a:rPr>
              <a:t>iq_ver_2_0.pd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utigerNext LT Regular"/>
              </a:rPr>
              <a:t>–</a:t>
            </a:r>
            <a:r>
              <a:rPr b="0" lang="en-US" sz="1400" spc="-1" strike="noStrike">
                <a:solidFill>
                  <a:srgbClr val="ffffff"/>
                </a:solidFill>
                <a:latin typeface="FrutigerNext LT 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FrutigerNext LT Regular"/>
              </a:rPr>
              <a:t>http://www.eda.org/pub/ibis/quality_wip/iq_ver_2_0.pd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FrutigerNext LT Regular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FrutigerNext LT Regular"/>
              </a:rPr>
              <a:t>IBIS Summit presentations 2007~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utigerNext LT Regular"/>
              </a:rPr>
              <a:t>– </a:t>
            </a:r>
            <a:r>
              <a:rPr b="0" lang="en-US" sz="1400" spc="-1" strike="noStrike">
                <a:solidFill>
                  <a:srgbClr val="000000"/>
                </a:solidFill>
                <a:latin typeface="FrutigerNext LT Regular"/>
              </a:rPr>
              <a:t>http://www.eda-stds.org/ibis/summits/index-bydate.ht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FrutigerNext LT Regular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FrutigerNext LT Regular"/>
              </a:rPr>
              <a:t>Micron model quality re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utigerNext LT Regular"/>
              </a:rPr>
              <a:t>– </a:t>
            </a:r>
            <a:r>
              <a:rPr b="0" lang="en-US" sz="1400" spc="-1" strike="noStrike">
                <a:solidFill>
                  <a:srgbClr val="000000"/>
                </a:solidFill>
                <a:latin typeface="FrutigerNext LT Regular"/>
              </a:rPr>
              <a:t>http://www.micron.com/products/partdetail?part=MT18JSF25672AY-1G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FrutigerNext LT Regular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FrutigerNext LT Regular"/>
              </a:rPr>
              <a:t>Altera model qua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utigerNext LT Regular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FrutigerNext LT 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FrutigerNext LT Regular"/>
              </a:rPr>
              <a:t>http://www.altera.com/literature/wp/signal-integrity_s2-v4.pd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FrutigerNext LT Regular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FrutigerNext LT Regular"/>
              </a:rPr>
              <a:t>Mark Alexander  Xilinx Corp.   </a:t>
            </a:r>
            <a:r>
              <a:rPr b="1" lang="en-US" sz="1400" spc="-1" strike="noStrike">
                <a:solidFill>
                  <a:srgbClr val="000000"/>
                </a:solidFill>
                <a:latin typeface="FrutigerNext LT Regular"/>
              </a:rPr>
              <a:t>《</a:t>
            </a:r>
            <a:r>
              <a:rPr b="1" lang="en-US" sz="1400" spc="-1" strike="noStrike">
                <a:solidFill>
                  <a:srgbClr val="000000"/>
                </a:solidFill>
                <a:latin typeface="FrutigerNext LT Regular"/>
              </a:rPr>
              <a:t>ssn master circuit</a:t>
            </a:r>
            <a:r>
              <a:rPr b="1" lang="en-US" sz="1400" spc="-1" strike="noStrike">
                <a:solidFill>
                  <a:srgbClr val="000000"/>
                </a:solidFill>
                <a:latin typeface="FrutigerNext LT Regular"/>
              </a:rPr>
              <a:t>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utigerNext LT Regular"/>
              </a:rPr>
              <a:t>–</a:t>
            </a:r>
            <a:r>
              <a:rPr b="0" lang="en-US" sz="1400" spc="-1" strike="noStrike">
                <a:solidFill>
                  <a:srgbClr val="ffffff"/>
                </a:solidFill>
                <a:latin typeface="FrutigerNext LT 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FrutigerNext LT Regular"/>
              </a:rPr>
              <a:t>http://www.xilinx.com/products/virtex4/pdfs/virtex-4_power_system_performance.pd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3B7BEF-3218-4D09-BBCF-7ECF48C5021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39280" y="40428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3400" spc="-1" strike="noStrike">
                <a:solidFill>
                  <a:srgbClr val="990000"/>
                </a:solidFill>
                <a:latin typeface="FrutigerNext LT Medium"/>
              </a:rPr>
              <a:t>Overview</a:t>
            </a: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246" name=""/>
          <p:cNvSpPr/>
          <p:nvPr/>
        </p:nvSpPr>
        <p:spPr>
          <a:xfrm>
            <a:off x="755640" y="1484280"/>
            <a:ext cx="6985080" cy="31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FrutigerNext LT Medium"/>
                <a:ea typeface="黑体"/>
              </a:rPr>
              <a:t>Huawei’s model quality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990000"/>
              </a:buClr>
              <a:buFont typeface="Wingdings" charset="2"/>
              <a:buChar char="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FrutigerNext LT Medium"/>
                <a:ea typeface="黑体"/>
              </a:rPr>
              <a:t>      </a:t>
            </a:r>
            <a:r>
              <a:rPr b="0" lang="en-US" sz="2000" spc="-1" strike="noStrike">
                <a:solidFill>
                  <a:srgbClr val="990000"/>
                </a:solidFill>
                <a:latin typeface="FrutigerNext LT Medium"/>
                <a:ea typeface="黑体"/>
              </a:rPr>
              <a:t>Golden model spec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990000"/>
              </a:buClr>
              <a:buFont typeface="Wingdings" charset="2"/>
              <a:buChar char="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FrutigerNext LT Medium"/>
                <a:ea typeface="黑体"/>
              </a:rPr>
              <a:t>      </a:t>
            </a:r>
            <a:r>
              <a:rPr b="0" lang="en-US" sz="2000" spc="-1" strike="noStrike">
                <a:solidFill>
                  <a:srgbClr val="990000"/>
                </a:solidFill>
                <a:latin typeface="FrutigerNext LT Medium"/>
                <a:ea typeface="黑体"/>
              </a:rPr>
              <a:t>Model  quality 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777777"/>
                </a:solidFill>
                <a:latin typeface="FrutigerNext LT Medium"/>
                <a:ea typeface="黑体"/>
              </a:rPr>
              <a:t> </a:t>
            </a:r>
            <a:r>
              <a:rPr b="1" lang="en-US" sz="2000" spc="-1" strike="noStrike">
                <a:solidFill>
                  <a:srgbClr val="777777"/>
                </a:solidFill>
                <a:latin typeface="FrutigerNext LT Medium"/>
                <a:ea typeface="黑体"/>
              </a:rPr>
              <a:t>IBIS model Corr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777777"/>
              </a:buClr>
              <a:buFont typeface="Wingdings" charset="2"/>
              <a:buChar char="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2000" spc="-1" strike="noStrike">
                <a:solidFill>
                  <a:srgbClr val="777777"/>
                </a:solidFill>
                <a:latin typeface="FrutigerNext LT Medium"/>
                <a:ea typeface="黑体"/>
              </a:rPr>
              <a:t>     </a:t>
            </a:r>
            <a:r>
              <a:rPr b="0" lang="en-US" sz="2000" spc="-1" strike="noStrike">
                <a:solidFill>
                  <a:srgbClr val="777777"/>
                </a:solidFill>
                <a:latin typeface="FrutigerNext LT Medium"/>
                <a:ea typeface="黑体"/>
              </a:rPr>
              <a:t>Correction  method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777777"/>
              </a:buClr>
              <a:buFont typeface="Wingdings" charset="2"/>
              <a:buChar char="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FrutigerNext LT Medium"/>
                <a:ea typeface="黑体"/>
              </a:rPr>
              <a:t>     </a:t>
            </a:r>
            <a:r>
              <a:rPr b="0" lang="en-US" sz="2000" spc="-1" strike="noStrike">
                <a:solidFill>
                  <a:srgbClr val="777777"/>
                </a:solidFill>
                <a:latin typeface="FrutigerNext LT Medium"/>
                <a:ea typeface="黑体"/>
              </a:rPr>
              <a:t>Correction  c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EF74AB-D67B-48BC-87E0-D64C2C7FD05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94920" y="11556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3400" spc="-1" strike="noStrike">
                <a:solidFill>
                  <a:srgbClr val="990000"/>
                </a:solidFill>
                <a:latin typeface="FrutigerNext LT Medium"/>
              </a:rPr>
              <a:t>Golden Model Specification</a:t>
            </a: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248" name=""/>
          <p:cNvSpPr/>
          <p:nvPr/>
        </p:nvSpPr>
        <p:spPr>
          <a:xfrm>
            <a:off x="804960" y="2852640"/>
            <a:ext cx="7777080" cy="29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utigerNext LT Regular"/>
              </a:rPr>
              <a:t>Huawei’s specificatio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utigerNext LT Regular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FrutigerNext LT Regular"/>
              </a:rPr>
              <a:t>Huawei follows the IQ Spec, but more detailed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utigerNext LT Regular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FrutigerNext LT Regular"/>
              </a:rPr>
              <a:t>Actual PCB measurement based correlation;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utigerNext LT Regular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FrutigerNext LT Regular"/>
              </a:rPr>
              <a:t>Model level:  Copper mod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utigerNext LT Regular"/>
              </a:rPr>
              <a:t>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FrutigerNext LT Regular"/>
              </a:rPr>
              <a:t>Silver mod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utigerNext LT Regular"/>
              </a:rPr>
              <a:t>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FrutigerNext LT Regular"/>
              </a:rPr>
              <a:t>Golden1 model (for signal reflectio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utigerNext LT Regular"/>
              </a:rPr>
              <a:t>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FrutigerNext LT Regular"/>
              </a:rPr>
              <a:t>Golden2 model (for timin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utigerNext LT Regular"/>
              </a:rPr>
              <a:t>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FrutigerNext LT Regular"/>
              </a:rPr>
              <a:t>Golden3 model (for SI+PI co-desig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6920" y="1413000"/>
            <a:ext cx="7490160" cy="10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utigerNext LT Regular"/>
              </a:rPr>
              <a:t>Background: </a:t>
            </a:r>
            <a:r>
              <a:rPr b="0" lang="en-US" sz="1400" spc="-1" strike="noStrike">
                <a:solidFill>
                  <a:srgbClr val="000000"/>
                </a:solidFill>
                <a:latin typeface="FrutigerNext LT Regular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utigerNext LT Regular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FrutigerNext LT Regular"/>
              </a:rPr>
              <a:t>IBIS model provided by many different chip vendors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utigerNext LT Regular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FrutigerNext LT Regular"/>
              </a:rPr>
              <a:t>System vendor’s requirement  should be considered in IQ spe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43C6A4-13ED-4AB7-B14A-2E8E705E85D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3400" spc="-1" strike="noStrike">
                <a:solidFill>
                  <a:srgbClr val="990000"/>
                </a:solidFill>
                <a:latin typeface="FrutigerNext LT Medium"/>
              </a:rPr>
              <a:t>Huawei IBIS Quality report</a:t>
            </a: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900000" y="836640"/>
            <a:ext cx="5867640" cy="482580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/>
          <p:nvPr/>
        </p:nvSpPr>
        <p:spPr>
          <a:xfrm>
            <a:off x="900000" y="4797360"/>
            <a:ext cx="1008000" cy="216000"/>
          </a:xfrm>
          <a:prstGeom prst="ellipse">
            <a:avLst/>
          </a:prstGeom>
          <a:noFill/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826920" y="4365720"/>
            <a:ext cx="1008360" cy="215640"/>
          </a:xfrm>
          <a:prstGeom prst="ellipse">
            <a:avLst/>
          </a:prstGeom>
          <a:noFill/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55640" y="2349360"/>
            <a:ext cx="1008000" cy="216000"/>
          </a:xfrm>
          <a:prstGeom prst="ellipse">
            <a:avLst/>
          </a:prstGeom>
          <a:noFill/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1763280" y="1561680"/>
            <a:ext cx="4608720" cy="786240"/>
            <a:chOff x="1763280" y="1561680"/>
            <a:chExt cx="4608720" cy="786240"/>
          </a:xfrm>
        </p:grpSpPr>
        <p:sp>
          <p:nvSpPr>
            <p:cNvPr id="256" name=""/>
            <p:cNvSpPr/>
            <p:nvPr/>
          </p:nvSpPr>
          <p:spPr>
            <a:xfrm flipH="1">
              <a:off x="1763280" y="1916280"/>
              <a:ext cx="62820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391840" y="1561680"/>
              <a:ext cx="3980160" cy="2926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lang="en-US" sz="1400" spc="-1" strike="noStrike">
                  <a:solidFill>
                    <a:srgbClr val="990000"/>
                  </a:solidFill>
                  <a:latin typeface="FrutigerNext LT Regular"/>
                </a:rPr>
                <a:t>Part1: Huawei’s  model quality  checklist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1908000" y="3577680"/>
            <a:ext cx="4463640" cy="786240"/>
            <a:chOff x="1908000" y="3577680"/>
            <a:chExt cx="4463640" cy="786240"/>
          </a:xfrm>
        </p:grpSpPr>
        <p:sp>
          <p:nvSpPr>
            <p:cNvPr id="259" name=""/>
            <p:cNvSpPr/>
            <p:nvPr/>
          </p:nvSpPr>
          <p:spPr>
            <a:xfrm flipH="1">
              <a:off x="1908000" y="3932280"/>
              <a:ext cx="60840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516400" y="3577680"/>
              <a:ext cx="3855240" cy="2926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lang="en-US" sz="1400" spc="-1" strike="noStrike">
                  <a:solidFill>
                    <a:srgbClr val="990000"/>
                  </a:solidFill>
                  <a:latin typeface="FrutigerNext LT Regular"/>
                </a:rPr>
                <a:t>Part2: Waveform comparis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1" name=""/>
          <p:cNvSpPr/>
          <p:nvPr/>
        </p:nvSpPr>
        <p:spPr>
          <a:xfrm flipH="1" flipV="1">
            <a:off x="1618920" y="5229000"/>
            <a:ext cx="43164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055960" y="5766840"/>
            <a:ext cx="5684760" cy="292680"/>
          </a:xfrm>
          <a:prstGeom prst="rect">
            <a:avLst/>
          </a:prstGeom>
          <a:noFill/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400" spc="-1" strike="noStrike">
                <a:solidFill>
                  <a:srgbClr val="990000"/>
                </a:solidFill>
                <a:latin typeface="FrutigerNext LT Regular"/>
              </a:rPr>
              <a:t>Part3: Electrical  Specifications: simulation VS measur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877080" y="994680"/>
            <a:ext cx="2124000" cy="269568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FrutigerNext LT Regular"/>
              </a:rPr>
              <a:t>If  passed , Huawei model level will be set as followed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FrutigerNext LT Regular"/>
              <a:buChar char="•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utigerNext LT Regular"/>
              </a:rPr>
              <a:t>Copper model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FrutigerNext LT Regular"/>
              <a:buChar char="•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utigerNext LT Regular"/>
              </a:rPr>
              <a:t>Silver model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FrutigerNext LT Regular"/>
              <a:buChar char="•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utigerNext LT Regular"/>
              </a:rPr>
              <a:t>Golden1 model (for signal reflect)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FrutigerNext LT Regular"/>
              <a:buChar char="•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utigerNext LT Regular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FrutigerNext LT Regular"/>
              </a:rPr>
              <a:t>Golden2 model (for timing)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FrutigerNext LT Regular"/>
              <a:buChar char="•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utigerNext LT Regular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FrutigerNext LT Regular"/>
              </a:rPr>
              <a:t>Golden3 model (for SI+PI co-desig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323E68-2FEB-4C5C-8C27-D2414E0C36F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23640" y="-36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3400" spc="-1" strike="noStrike">
                <a:solidFill>
                  <a:srgbClr val="990000"/>
                </a:solidFill>
                <a:latin typeface="FrutigerNext LT Medium"/>
              </a:rPr>
              <a:t>Golden Model Specification</a:t>
            </a: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265" name=""/>
          <p:cNvSpPr/>
          <p:nvPr/>
        </p:nvSpPr>
        <p:spPr>
          <a:xfrm>
            <a:off x="247320" y="765000"/>
            <a:ext cx="4293720" cy="3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utigerNext LT Regular"/>
              </a:rPr>
              <a:t>Part1: Huawei’s  model quality  checklis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755640" y="1052640"/>
            <a:ext cx="7272360" cy="5151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1B4D05-0519-4970-B9BF-81065009A9A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3400" spc="-1" strike="noStrike">
                <a:solidFill>
                  <a:srgbClr val="990000"/>
                </a:solidFill>
                <a:latin typeface="FrutigerNext LT Medium"/>
              </a:rPr>
              <a:t>Golden Model Specification</a:t>
            </a: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268" name=""/>
          <p:cNvSpPr/>
          <p:nvPr/>
        </p:nvSpPr>
        <p:spPr>
          <a:xfrm>
            <a:off x="180720" y="1025640"/>
            <a:ext cx="8495280" cy="3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utigerNext LT Regular"/>
              </a:rPr>
              <a:t>Part2: Waveform comparison:  FTS (Fast/typical/slow)  simulation  VS  measur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324000" y="3284640"/>
            <a:ext cx="3744720" cy="230976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2"/>
          <a:stretch/>
        </p:blipFill>
        <p:spPr>
          <a:xfrm>
            <a:off x="4371840" y="3213000"/>
            <a:ext cx="3745080" cy="242892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/>
          <p:cNvPicPr/>
          <p:nvPr/>
        </p:nvPicPr>
        <p:blipFill>
          <a:blip r:embed="rId3"/>
          <a:stretch/>
        </p:blipFill>
        <p:spPr>
          <a:xfrm>
            <a:off x="2556000" y="1484280"/>
            <a:ext cx="3960720" cy="108108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/>
          <p:nvPr/>
        </p:nvSpPr>
        <p:spPr>
          <a:xfrm>
            <a:off x="3294000" y="2565360"/>
            <a:ext cx="248940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宋体"/>
                <a:ea typeface="宋体"/>
              </a:rPr>
              <a:t>Channel  S-parameter te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239920" y="5538960"/>
            <a:ext cx="468000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宋体"/>
                <a:ea typeface="宋体"/>
              </a:rPr>
              <a:t>actual PCB measurement  VS  simul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C611AC-7953-4457-BF88-F733920A40D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3400" spc="-1" strike="noStrike">
                <a:solidFill>
                  <a:srgbClr val="990000"/>
                </a:solidFill>
                <a:latin typeface="FrutigerNext LT Medium"/>
              </a:rPr>
              <a:t>Model Quality report</a:t>
            </a: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275" name=""/>
          <p:cNvSpPr/>
          <p:nvPr/>
        </p:nvSpPr>
        <p:spPr>
          <a:xfrm>
            <a:off x="324000" y="903240"/>
            <a:ext cx="7920000" cy="3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utigerNext LT Regular"/>
              </a:rPr>
              <a:t>Part3: Electrical  Specifications: simulation VS measur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395280" y="1557360"/>
            <a:ext cx="4714920" cy="282888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2"/>
          <a:stretch/>
        </p:blipFill>
        <p:spPr>
          <a:xfrm>
            <a:off x="4427640" y="2205000"/>
            <a:ext cx="4333680" cy="2959200"/>
          </a:xfrm>
          <a:prstGeom prst="rect">
            <a:avLst/>
          </a:prstGeom>
          <a:ln w="0">
            <a:noFill/>
          </a:ln>
        </p:spPr>
      </p:pic>
      <p:grpSp>
        <p:nvGrpSpPr>
          <p:cNvPr id="278" name=""/>
          <p:cNvGrpSpPr/>
          <p:nvPr/>
        </p:nvGrpSpPr>
        <p:grpSpPr>
          <a:xfrm>
            <a:off x="759960" y="4653000"/>
            <a:ext cx="3345120" cy="1482840"/>
            <a:chOff x="759960" y="4653000"/>
            <a:chExt cx="3345120" cy="1482840"/>
          </a:xfrm>
        </p:grpSpPr>
        <p:sp>
          <p:nvSpPr>
            <p:cNvPr id="279" name=""/>
            <p:cNvSpPr/>
            <p:nvPr/>
          </p:nvSpPr>
          <p:spPr>
            <a:xfrm>
              <a:off x="759960" y="4653000"/>
              <a:ext cx="690840" cy="29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FrutigerNext LT Regular"/>
                </a:rPr>
                <a:t>FOM:</a:t>
              </a:r>
              <a:r>
                <a:rPr b="0" lang="en-US" sz="1400" spc="-1" strike="noStrike">
                  <a:solidFill>
                    <a:srgbClr val="ffffff"/>
                  </a:solidFill>
                  <a:latin typeface="FrutigerNext LT Regular"/>
                </a:rPr>
                <a:t>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80" name="" descr=""/>
            <p:cNvPicPr/>
            <p:nvPr/>
          </p:nvPicPr>
          <p:blipFill>
            <a:blip r:embed="rId3">
              <a:lum bright="-20000"/>
            </a:blip>
            <a:stretch/>
          </p:blipFill>
          <p:spPr>
            <a:xfrm>
              <a:off x="1042920" y="4869000"/>
              <a:ext cx="3062160" cy="126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D111B1-BC1B-4D87-980F-99A22EBCA29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39280" y="40428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3400" spc="-1" strike="noStrike">
                <a:solidFill>
                  <a:srgbClr val="990000"/>
                </a:solidFill>
                <a:latin typeface="FrutigerNext LT Medium"/>
              </a:rPr>
              <a:t>Overview</a:t>
            </a: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282" name=""/>
          <p:cNvSpPr/>
          <p:nvPr/>
        </p:nvSpPr>
        <p:spPr>
          <a:xfrm>
            <a:off x="755640" y="1484280"/>
            <a:ext cx="6985080" cy="31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777777"/>
                </a:solidFill>
                <a:latin typeface="FrutigerNext LT Medium"/>
                <a:ea typeface="黑体"/>
              </a:rPr>
              <a:t>Huawei’s model quality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777777"/>
              </a:buClr>
              <a:buFont typeface="Wingdings" charset="2"/>
              <a:buChar char="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FrutigerNext LT Medium"/>
                <a:ea typeface="黑体"/>
              </a:rPr>
              <a:t>      </a:t>
            </a:r>
            <a:r>
              <a:rPr b="0" lang="en-US" sz="2000" spc="-1" strike="noStrike">
                <a:solidFill>
                  <a:srgbClr val="777777"/>
                </a:solidFill>
                <a:latin typeface="FrutigerNext LT Medium"/>
                <a:ea typeface="黑体"/>
              </a:rPr>
              <a:t>Golden model spec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777777"/>
              </a:buClr>
              <a:buFont typeface="Wingdings" charset="2"/>
              <a:buChar char="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FrutigerNext LT Medium"/>
                <a:ea typeface="黑体"/>
              </a:rPr>
              <a:t>      </a:t>
            </a:r>
            <a:r>
              <a:rPr b="0" lang="en-US" sz="2000" spc="-1" strike="noStrike">
                <a:solidFill>
                  <a:srgbClr val="777777"/>
                </a:solidFill>
                <a:latin typeface="FrutigerNext LT Medium"/>
                <a:ea typeface="黑体"/>
              </a:rPr>
              <a:t>Model validation/quality 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777777"/>
              </a:buClr>
              <a:buFont typeface="Wingdings" charset="2"/>
              <a:buChar char="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777777"/>
                </a:solidFill>
                <a:latin typeface="FrutigerNext LT Medium"/>
                <a:ea typeface="黑体"/>
              </a:rPr>
              <a:t> </a:t>
            </a:r>
            <a:r>
              <a:rPr b="1" lang="en-US" sz="2000" spc="-1" strike="noStrike">
                <a:solidFill>
                  <a:srgbClr val="990000"/>
                </a:solidFill>
                <a:latin typeface="FrutigerNext LT Medium"/>
                <a:ea typeface="黑体"/>
              </a:rPr>
              <a:t>IBIS model Corr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990000"/>
              </a:buClr>
              <a:buFont typeface="Wingdings" charset="2"/>
              <a:buChar char="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2000" spc="-1" strike="noStrike">
                <a:solidFill>
                  <a:srgbClr val="990000"/>
                </a:solidFill>
                <a:latin typeface="FrutigerNext LT Medium"/>
                <a:ea typeface="黑体"/>
              </a:rPr>
              <a:t>     </a:t>
            </a:r>
            <a:r>
              <a:rPr b="0" lang="en-US" sz="2000" spc="-1" strike="noStrike">
                <a:solidFill>
                  <a:srgbClr val="990000"/>
                </a:solidFill>
                <a:latin typeface="FrutigerNext LT Medium"/>
                <a:ea typeface="黑体"/>
              </a:rPr>
              <a:t>Correction  method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990000"/>
              </a:buClr>
              <a:buFont typeface="Wingdings" charset="2"/>
              <a:buChar char="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FrutigerNext LT Medium"/>
                <a:ea typeface="黑体"/>
              </a:rPr>
              <a:t>     </a:t>
            </a:r>
            <a:r>
              <a:rPr b="0" lang="en-US" sz="2000" spc="-1" strike="noStrike">
                <a:solidFill>
                  <a:srgbClr val="990000"/>
                </a:solidFill>
                <a:latin typeface="FrutigerNext LT Medium"/>
                <a:ea typeface="黑体"/>
              </a:rPr>
              <a:t>Correction  c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02A6F4-C5DD-401C-8E23-9A1464C0E30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68000" y="11556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3400" spc="-1" strike="noStrike">
                <a:solidFill>
                  <a:srgbClr val="990000"/>
                </a:solidFill>
                <a:latin typeface="FrutigerNext LT Medium"/>
              </a:rPr>
              <a:t>Background</a:t>
            </a: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611280" y="1341360"/>
            <a:ext cx="7603920" cy="4492440"/>
            <a:chOff x="611280" y="1341360"/>
            <a:chExt cx="7603920" cy="4492440"/>
          </a:xfrm>
        </p:grpSpPr>
        <p:sp>
          <p:nvSpPr>
            <p:cNvPr id="285" name=""/>
            <p:cNvSpPr/>
            <p:nvPr/>
          </p:nvSpPr>
          <p:spPr>
            <a:xfrm>
              <a:off x="611280" y="1341360"/>
              <a:ext cx="7351560" cy="449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FrutigerNext LT Regular"/>
                </a:rPr>
                <a:t>  </a:t>
              </a:r>
              <a:r>
                <a:rPr b="1" lang="en-US" sz="1600" spc="-1" strike="noStrike">
                  <a:solidFill>
                    <a:srgbClr val="000000"/>
                  </a:solidFill>
                  <a:latin typeface="FrutigerNext LT Regular"/>
                </a:rPr>
                <a:t>Once there are some data issues in IBIS model</a:t>
              </a:r>
              <a:r>
                <a:rPr b="1" lang="zh-CN" sz="1600" spc="-1" strike="noStrike">
                  <a:solidFill>
                    <a:srgbClr val="000000"/>
                  </a:solidFill>
                  <a:latin typeface="FrutigerNext LT Regular"/>
                </a:rPr>
                <a:t>：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FrutigerNext LT Regular"/>
                </a:rPr>
                <a:t>   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FrutigerNext LT Regular"/>
                </a:rPr>
                <a:t>   </a:t>
              </a:r>
              <a:r>
                <a:rPr b="1" lang="en-US" sz="1400" spc="-1" strike="noStrike">
                  <a:solidFill>
                    <a:srgbClr val="000000"/>
                  </a:solidFill>
                  <a:latin typeface="FrutigerNext LT Regular"/>
                </a:rPr>
                <a:t>Non-monotonic VI table</a:t>
              </a:r>
              <a:r>
                <a:rPr b="0" lang="en-US" sz="1400" spc="-1" strike="noStrike">
                  <a:solidFill>
                    <a:srgbClr val="000000"/>
                  </a:solidFill>
                  <a:latin typeface="FrutigerNext LT Regular"/>
                </a:rPr>
                <a:t>                                                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FrutigerNext LT Regular"/>
                </a:rPr>
                <a:t>Non-monotonic Vt tab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lang="en-US" sz="2000" spc="-1" strike="noStrike">
                  <a:solidFill>
                    <a:srgbClr val="990000"/>
                  </a:solidFill>
                  <a:latin typeface="Arial"/>
                </a:rPr>
                <a:t>What can we do ?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FrutigerNext LT Regular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86" name="" descr=""/>
            <p:cNvPicPr/>
            <p:nvPr/>
          </p:nvPicPr>
          <p:blipFill>
            <a:blip r:embed="rId1"/>
            <a:stretch/>
          </p:blipFill>
          <p:spPr>
            <a:xfrm>
              <a:off x="689040" y="1773000"/>
              <a:ext cx="3522600" cy="18734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287" name="" descr=""/>
            <p:cNvPicPr/>
            <p:nvPr/>
          </p:nvPicPr>
          <p:blipFill>
            <a:blip r:embed="rId2"/>
            <a:stretch/>
          </p:blipFill>
          <p:spPr>
            <a:xfrm>
              <a:off x="4794120" y="1749240"/>
              <a:ext cx="3421080" cy="19130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2E512F-3AAA-40C0-AE7B-85A76ED23C0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9T09:30:18Z</dcterms:created>
  <dc:creator>user</dc:creator>
  <dc:description/>
  <dc:language>en-US</dc:language>
  <cp:lastModifiedBy>Bob Ross</cp:lastModifiedBy>
  <dcterms:modified xsi:type="dcterms:W3CDTF">2009-10-01T05:55:37Z</dcterms:modified>
  <cp:revision>21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sflag">
    <vt:lpwstr>1254276667</vt:lpwstr>
  </property>
</Properties>
</file>